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C50F-2B86-4F96-B99C-D9F93A6A5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FB20-8257-42FA-AC19-ED3CC3BED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C1F3-F306-4FD5-B8FE-FA09E0355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F92C-F685-473F-942F-7C5EC028E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C515-D506-4F18-9107-F24716FA8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CC6D-79B5-415C-B324-5332277F3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B31A-185D-4E51-94B2-FE79F67A2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4DDF-8DA5-46D3-8EBC-90A87B908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9338-1E9F-4B44-8A22-64293ADA5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EEA9-5C33-427A-82C1-F59479C1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13A6-225A-473F-A5C0-7F46A8AC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65B8-BAD8-4DC6-9E22-455FF844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91FCE-2D51-4F35-8493-BF3BD618EF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VIAŢA SPIRITUALĂ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Manualul de Istori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clasa a V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, Zoe Petre, Laura Căpiţă, Monica Dvorski, Carol Căpiţă, Ioan Grosu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429000" y="4876920"/>
            <a:ext cx="22096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Sesiunea iunie - iulie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ransition advTm="5000"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114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iaţa spirituală a oamenilor din preistorie este la fel de bogată ca şi a noastră. Dar, în vreme ce noi ştim mai multe despre lumea ce ne înconjoară, primitivii nu au la dispoziţie instrumentele de astăz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esiguranţa în obţinerea hranei şi faptul că nu găsesc răspunsurile la întrebări cum ar fi cauza anotimpurilor sau originea animalelor, i-au făcut să acorde puteri deosebite unor plante şi animale sau unor fiinţe supra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mitivii cred că dacă nu acordă respectul cuvenit acestor fiinţe (prin dansuri şi ceremonii), ele se pot răzbuna refuzând să-i ajute la vânătoare şi cu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 loc aparte îl ocupă cultul morţilor. Obiceiul îngropării celor morţi cu daruri (ofrande) alături apare la sfârşitul paleoliticului, dar el se răspândeşte cu deosebire în timpul epocilor următo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neolitic, atunci când agricultura şi creşterea animalelor au devenit ocupaţiile de bază, în religia primitivă apar divinităţi care pot asigura recolte bogate şi turme numero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comp_i"/>
          <p:cNvPicPr/>
          <p:nvPr/>
        </p:nvPicPr>
        <p:blipFill>
          <a:blip r:embed="rId1"/>
          <a:stretch/>
        </p:blipFill>
        <p:spPr>
          <a:xfrm>
            <a:off x="5105520" y="1828800"/>
            <a:ext cx="3593880" cy="3594240"/>
          </a:xfrm>
          <a:prstGeom prst="rect">
            <a:avLst/>
          </a:prstGeom>
          <a:ln w="0">
            <a:noFill/>
          </a:ln>
        </p:spPr>
      </p:pic>
    </p:spTree>
  </p:cSld>
  <p:transition advTm="5000"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e izvoare istorice sunt utilizate pentru cercetarea preistoriei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arheolog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sc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numisma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edaţi pe scurt înţelesul termenil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reisto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homin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igra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ce epoci ale preistoriei au fost realiza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omesticirea animale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etalur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lărit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lev</cp:lastModifiedBy>
  <dcterms:modified xsi:type="dcterms:W3CDTF">2012-06-18T11:06:09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